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24D1B-3406-471C-AA60-1DE04F224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26B5-CEE5-4BC2-9A67-8350D64ED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2E28E-9B04-4209-8084-6B880FC26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962B5-2A34-49C4-B669-C66459650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CC32E-0516-4EB7-B71D-7CB4141F8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D6635-B55F-42D2-B349-F429DA678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87A61-558F-4E99-AC71-08CC59703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91AEA-5C4F-49A0-8FAC-84FD7A32A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D21E0-B4F8-4F91-BD24-F1D42E9C4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03096-7DC9-4508-80F3-F17A87FEE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6AB07-61E0-4B87-B768-AD373EA09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DEFB-348B-4EFD-B80C-E81B4F6A6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55ADD-C6EE-428F-9500-E0A30BB93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8496C-BF3B-4A76-B115-110B4B922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38055-FC9A-4FCC-BF5B-6A06EE89B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5F0D9-309C-4E19-BFA0-8C99B68BA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F45CE-2AAD-4B74-BE35-E086DBB60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7BA7F-41CD-46A4-8D80-1A8ED5865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12B83-B823-43F4-925F-D536402D7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4788F-E6DB-47A4-ACCA-F17A991AC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ADB2C-8DC5-4222-9C72-E638C7841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3AF8E-D0D8-4D2B-9E50-3FFC76816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753B-A0A2-4231-B815-14135A2B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347E5-BA63-458A-9BAD-DB31791CD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45B34-AFFE-4344-966F-209AA4495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0B254-6A98-4FFB-9379-FC586C7A6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E906E-AC5A-4A4D-8571-38C7191E7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841EF-AA6D-4776-9190-FBA357CB0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EE7D48-E4DC-415A-92D2-B02D1FE70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A827B-BD44-4A5A-BD25-9BE9C2D42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C64847-7437-4121-AF1A-44CCDCDC2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A27CA-7273-4BAC-B86F-0E023868E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12641-97EF-427E-B6C8-6D5CA960B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F496-45BE-45AA-997E-9F97DC04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1C7AB-7D10-4947-A6A4-4F0B4DAC80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7288A-1C38-492B-A523-5D630CCB3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E5B1E-7634-4804-85ED-2164D0EF2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734DE-5978-4D28-8684-51AC0A7F7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07D6F-03D4-4977-9321-7CBAE054B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15D4B-C8E2-46CF-A9A5-9084BFA10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3F3F6-8257-47F1-9D74-23F8364C1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2007C6-3C53-4FEA-AB4B-D24D6F0763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688F19-3013-475B-A14A-163EFA417A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9E05E-2AD5-4D0B-AA00-18CD04899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DCEB-07D9-42B8-B3C3-0B5DECDF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38D03-E92F-4043-92E5-F1D55C141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9D1FF-76AE-45DD-BE3E-FEF0EE5CD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C6C04-E636-482C-8DFB-3F720FC54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AFDF6-4594-465E-90E1-F13BD3702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30773-8ADE-46F3-A615-834663EE1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14EE5-84FE-4D22-901F-EE3A315F3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6A846-AAE0-4000-A24E-90ECFBD9F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D6A19-2C07-44D0-8970-152BCCA11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06CB2-CC74-47A8-A5E4-D7CC7239C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2AC78-5057-472E-A886-F3BBE37B6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96B5-14F9-483A-BB20-ABF3D3B6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392CAD-246D-410D-84A8-8C93D0410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B2DF46-30A4-42F2-B4DA-F7E294B8D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1A8C1-B23A-4569-8CD0-B6B3DA5DC5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EEE58-F4F3-45F6-A793-A1F5370D7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DF25D2-8AC2-47A0-8F0B-F9313B140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F1E54-8829-4B5D-896D-5E0FC6E02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34EEE-4A3D-40BC-9F72-65324B91E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72F81-4608-44CB-8260-2A81FB815C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CCA45-7727-4398-B033-C3FE5AB81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8D84F-BE32-454E-A487-533B2DB6A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C9A9-A39A-4C15-B76C-51D53707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9C2CC-893B-4BDA-A646-FFB8D8DDA1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C497F3-3A85-4EEA-8D5B-F55B6A9C2B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88A93C-1763-4D6B-BEAD-58BCEA47BA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FABF-5A97-41A1-856F-1135DB1A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2822-B695-4529-A2A1-C276CF802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9B91-2854-4393-8141-FEEFE38708CE}"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1DF9-085E-4B29-9DA1-6D50F64E4D04}"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8418-9E3C-409F-B065-BC6C4B04FA5C}"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C8A3-FFB1-4F82-853C-ECF20DB96FA7}"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35E8-0516-49C0-ACF1-1775021E3284}"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5409-1241-4A28-B6CA-96E82CF71D10}"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juin, juillet et  août, où les températures maximales enregistrées oscillent</a:t>
            </a:r>
            <a:r>
              <a:rPr b="0" lang="fr-FR" sz="1700" spc="-1" strike="noStrike">
                <a:solidFill>
                  <a:srgbClr val="ff0000"/>
                </a:solidFill>
                <a:latin typeface="Arial"/>
              </a:rPr>
              <a:t> </a:t>
            </a:r>
            <a:r>
              <a:rPr b="0" lang="fr-FR" sz="1700" spc="-1" strike="noStrike">
                <a:solidFill>
                  <a:srgbClr val="ffffff"/>
                </a:solidFill>
                <a:latin typeface="Arial"/>
              </a:rPr>
              <a:t>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 le plus importantes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a offert le terrain et le financement des travaux. Cet endroit disposait, jusqu’au 1911, d’un obélisque construit 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6ea0b0"/>
                </a:solidFill>
                <a:latin typeface="Franklin Gothic Book"/>
              </a:rPr>
              <a:t>Marseille est un lieu très touristique. Elle est visitée  par beaucoup  de  gens pendant  toute  l’année. Pour cette raison , elle  offre une grande variété des logements. Marseille  a des hôtels a partir de cinq étoiles jusqu’a des petits hôtels.</a:t>
            </a:r>
            <a:br>
              <a:rPr sz="1300"/>
            </a:br>
            <a:r>
              <a:rPr b="1" lang="fr-FR" sz="1300" spc="-1" strike="noStrike">
                <a:solidFill>
                  <a:srgbClr val="6ea0b0"/>
                </a:solidFill>
                <a:latin typeface="Franklin Gothic Book"/>
              </a:rPr>
              <a:t>Á continuation  une liste avec les hôtels cinq étoiles </a:t>
            </a:r>
            <a:r>
              <a:rPr b="1" lang="fr-FR" sz="1300" spc="-1" strike="noStrike">
                <a:solidFill>
                  <a:srgbClr val="ff0000"/>
                </a:solidFill>
                <a:latin typeface="Franklin Gothic Book"/>
              </a:rPr>
              <a:t> </a:t>
            </a:r>
            <a:r>
              <a:rPr b="1" lang="fr-FR" sz="1300" spc="-1" strike="noStrike">
                <a:solidFill>
                  <a:srgbClr val="6ea0b0"/>
                </a:solidFill>
                <a:latin typeface="Franklin Gothic Book"/>
              </a:rPr>
              <a:t>de Marseille :</a:t>
            </a:r>
            <a:br>
              <a:rPr sz="1300"/>
            </a:br>
            <a:endParaRPr b="0" lang="en-US" sz="13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offre  une cuisine traditionnelle et internationale pour la variété de touristes  qui visitent la ville. Les plats typiques sont faits avec  des produits comme le poisson et la viande. </a:t>
            </a:r>
            <a:br>
              <a:rPr sz="1400"/>
            </a:br>
            <a:endParaRPr b="0" lang="en-US" sz="14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ea0b0"/>
                </a:solidFill>
                <a:latin typeface="Franklin Gothic Book"/>
              </a:rPr>
              <a:t>LA </a:t>
            </a:r>
            <a:r>
              <a:rPr b="1" lang="fr-FR" sz="1400" spc="-1" strike="noStrike">
                <a:solidFill>
                  <a:srgbClr val="6ea0b0"/>
                </a:solidFill>
                <a:latin typeface="Franklin Gothic Book"/>
              </a:rPr>
              <a:t>BOUILLABAISSE:</a:t>
            </a:r>
            <a:br>
              <a:rPr sz="1400"/>
            </a:br>
            <a:r>
              <a:rPr b="1" lang="fr-FR" sz="1300" spc="-1" strike="noStrike">
                <a:solidFill>
                  <a:srgbClr val="6ea0b0"/>
                </a:solidFill>
                <a:latin typeface="Franklin Gothic Book"/>
              </a:rPr>
              <a:t>La bouillabaisse est une soupe de fruits de mer faite  avec différentes sortes de poissons et des mollusques cuits et  des légumes,. Elle est parfumée avec une variété d' herbes et épices comme l'ail , zeste d'orange , le basilic , le laurier , le fenouil et le safran . Il ya au moins trois types de poissons dans une bouillabaisse traditionnelle</a:t>
            </a:r>
            <a:br>
              <a:rPr sz="1300"/>
            </a:br>
            <a:br>
              <a:rPr sz="1400"/>
            </a:br>
            <a:br>
              <a:rPr sz="1400"/>
            </a:br>
            <a:endParaRPr b="0" lang="en-US" sz="13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Jesica Francovig</cp:lastModifiedBy>
  <dcterms:modified xsi:type="dcterms:W3CDTF">2011-08-18T14:24:42Z</dcterms:modified>
  <cp:revision>20</cp:revision>
  <dc:subject/>
  <dc:title>MARSEILLE</dc:title>
</cp:coreProperties>
</file>